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C74-9E4C-4E7A-A41F-A731E94E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390-D718-458A-8A17-D3A09940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095-4FB0-41A2-82CA-9DB9E038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39E-7394-4EB2-93B6-7D51D1E2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BC77-D72C-4B3C-AA4A-03A2CFBC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0B08-4D83-4F97-A817-49634BEA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0FD2-8928-4849-9C64-A90122D8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C984-D18A-4041-B338-1D1FC4B0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2101-24D6-49E5-950E-8CC8A182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684000"/>
            <a:ext cx="84582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4DF2-7F76-4F09-A07C-8DDF30AA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EF0A-3985-4F75-82C8-85E894DA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82B-5373-48A1-B430-C31FE383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379B-A059-467F-910B-E4260F3E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B90D-EDE9-4B5D-BDC7-EEA554B4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F189-1DCC-4C6C-9065-01AF3687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FF02-29CB-4A2D-BAE0-E386342D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647C-49A0-43C3-8049-35C7AB38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A35-760D-44E9-82E9-183780BF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054A-A619-492E-AC72-B57C7CE5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E86-D4B8-4268-BF60-9CD2A49B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684000"/>
            <a:ext cx="84582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9D0-5FA1-4D73-8479-C928EDFA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D67-52C5-4CE5-8EB6-1315F72E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604-8258-4A1F-81E7-F2BF2EBA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7FD-6B79-4579-9DB4-7F44E257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C1C3E-EBC3-45A3-90B2-19EA4DFFD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3183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6640" y="634680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100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3BE2D-C71B-45DE-9E05-7DE924139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jpress.org/article/news/52577" TargetMode="External"/><Relationship Id="rId3" Type="http://schemas.openxmlformats.org/officeDocument/2006/relationships/hyperlink" Target="http://www.minnpost.com/globalpost/2011/08/31/31214/germany_fights_neo-nazis_after_norway_killings" TargetMode="External"/><Relationship Id="rId4" Type="http://schemas.openxmlformats.org/officeDocument/2006/relationships/hyperlink" Target="http://www.france24.com/en/files/imagecache/france24_ct_player_thumbnail_169/article/image/norvege-new.jpg" TargetMode="External"/><Relationship Id="rId5" Type="http://schemas.openxmlformats.org/officeDocument/2006/relationships/hyperlink" Target="http://www.escapistmagazine.com/news/view/112194-Neo-Nazis-Faked-Out-by-Trick-T-Shirts" TargetMode="External"/><Relationship Id="rId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Sub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20360" y="1994040"/>
            <a:ext cx="885492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o-Nazi'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in Aver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jpress.org/article/news/5257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ticle and picture for Step on gas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minnpost.com/globalpost/2011/08/31/31214/germany_fights_neo-nazis_after_norway_kill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ticle for Germany fights neo naz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france24.com/en/files/imagecache/france24_ct_player_thumbnail_169/article/image/norvege-new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cture for germany fights neo naz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www.escapistmagazine.com/news/view/112194-Neo-Nazis-Faked-Out-by-Trick-T-Shi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ticle and picture for T-shirt tricks neo naz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 for power point: Austin Aver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on gas Slo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o Voigt made a campaign slogan saying step on the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ake offense to this thinking that it is reffering to holocaust gas cha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sters were put up around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66636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on gas slo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ster was for the national democratic party of Germany which currently has between 6,000 and 7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o Voigt was found guilty in 2004 of Nazism for calling Hitler a great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086600" y="4114800"/>
            <a:ext cx="18288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y fights neo naz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94040"/>
            <a:ext cx="885492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is trying to hinder the far right wing German political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hard to ban a political party even if there beliefs are naz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 of Germans think that it is a good idea to ban the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y fights neo naz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85492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considering choking the parties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llings in Norway has made efforts to ban party even fur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00400" y="3895560"/>
            <a:ext cx="3238560" cy="181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-shirt tricks neo naz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rock concert trick t-shirts were being handed out that when you washed it the saying on it would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ying changed from “Hardcore rebel” to “If your t-shirt can do it, you can do it to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0 shirts were donated anonymously by Exit Duetschland which is a group dedicated to assisting people to escape far right extrem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-shirt trick neo naz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don Richter of the far right extremist thought that it was pathetic to spend money on something like t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Deutschland felt satisfied about spreading the word of ther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429000" y="4753080"/>
            <a:ext cx="3333600" cy="187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people were in the NPD in 2009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6000 to 7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60000 to 7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600 to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percentage of Germans think is it a good idea to ban the N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7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i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swer to 1 was A.6000-7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swer to 2 was C.6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23:43:39Z</dcterms:created>
  <dc:creator>Austin  Averett</dc:creator>
  <dc:description/>
  <dc:language>en-US</dc:language>
  <cp:lastModifiedBy>Austin  Averett</cp:lastModifiedBy>
  <dcterms:modified xsi:type="dcterms:W3CDTF">2011-09-02T01:10:32Z</dcterms:modified>
  <cp:revision>2</cp:revision>
  <dc:subject/>
  <dc:title/>
</cp:coreProperties>
</file>